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BD2-FFC0-4BB4-87C5-22311950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5EB-E5E6-41EC-A886-0D1B8BFD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683-A518-4189-83F4-EA451AF7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DC4-96BC-44D0-A697-F3927294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176D-7FDD-4461-9C1F-21DD1F28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5C0-2085-4311-9FE6-8AE5F7FD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1C2-562A-4348-A09B-58DE3182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F44-C0EE-4E96-8206-892C938E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0D2-2C92-4733-A251-2503E585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C27-8A62-43A1-9DD2-D8A44269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108-DC95-453C-A299-821264DF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D41-946D-405E-B563-BEE6BD50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7616-7B4F-494E-828B-37B9300F137E}" type="slidenum"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ewiki.newint.org/index.php/Protecting_the_planet_against_climate_chang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1206360"/>
            <a:ext cx="7772400" cy="397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076360" y="2020320"/>
            <a:ext cx="14292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7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371840" y="4869000"/>
            <a:ext cx="2360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 1" descr=""/>
          <p:cNvPicPr/>
          <p:nvPr/>
        </p:nvPicPr>
        <p:blipFill>
          <a:blip r:embed="rId1"/>
          <a:stretch/>
        </p:blipFill>
        <p:spPr>
          <a:xfrm>
            <a:off x="249120" y="49320"/>
            <a:ext cx="8645760" cy="115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23640" y="836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ainting mountains whit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developing houses that float on w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exting warning of bad weather to fishermen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utting air-conditioning in bus stop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ainting roof gardens whit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ending money to help people after disaster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giving free bottles of w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lanting more tree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ghting against dengu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improving the soil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(check your answers in the infographic on the next slid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-23760" y="77760"/>
            <a:ext cx="921528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07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2492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eewiki.newint.org/index.php/Protecting_the_planet_against_climate_cha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5148360" y="3836880"/>
            <a:ext cx="324000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9:41:30Z</dcterms:created>
  <dc:creator>Linda Ruas</dc:creator>
  <dc:description/>
  <dc:language>en-US</dc:language>
  <cp:lastModifiedBy>Linda Ruas</cp:lastModifiedBy>
  <dcterms:modified xsi:type="dcterms:W3CDTF">2014-05-26T20:08:22Z</dcterms:modified>
  <cp:revision>3</cp:revision>
  <dc:subject/>
  <dc:title>Quiz about climate change: what are countries doing to “climate-proof” the planet?</dc:title>
</cp:coreProperties>
</file>